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051F9-ACEC-488F-85CC-14CD113DD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78BB8-ABF5-4A6E-8513-D84E65A2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872D2-D4D4-4062-A407-EEAFC0343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29144-43A3-4259-82D3-68CF7979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5BE8-F6FB-4D0E-AD51-4D0D6154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42ED-9168-4D12-8226-E48953D9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DDEC-5053-438A-8ADE-87BD9F40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12FB-DA66-4686-827A-73D97CD6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B2F8-AAB3-4178-AA35-DD72FEB0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E968-5070-4FC7-8F26-A2DCA48D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E1FB-BDE6-4C57-8152-5D2AA136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98DEF-185A-4A5D-A635-BD7C35C1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67D1-BF68-4D94-A10A-B5963434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7F61-8EAE-4878-8A37-E49B7DDC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4BDD-601E-4607-A9B4-0C207C34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A7FA-A332-4D1C-93D9-1BCF3FECF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5E92-2932-4484-ABFC-06F76EBF6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D5DF8-AA7B-4921-BCF0-980E0AB4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F4245-8352-4E45-95F4-D23A309F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1D7F0-8DBA-43B5-9787-934EB9A3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669E5-4CC7-4D82-9F21-B8A33809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ED8C3-8048-4686-8B3B-8F556B69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B408F-1889-4F30-B472-A86D8DF4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03BBD-6744-4D48-BF68-FC82E58B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DF21-C9D0-40C8-BE43-B47AA7E51E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A33B-F04D-4F52-B6C9-629794249D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eaking a Double Column Transposition Cipher Help Pres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yptanalysis of a D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3920" y="1936800"/>
            <a:ext cx="830124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weakness of the double column transposition cipher lies in the use of the same pair of keys on several plaintext messages all of the same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if the following 4 messages between Bob and Alice were intercept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16480" y="3309840"/>
            <a:ext cx="75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tmai atecb bsbnq xivjb eecqu heikn oxlct sedwn oowq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xda aqmue caeon io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16480" y="4100400"/>
            <a:ext cx="75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nbt tjliu eeyhq xotbi dttqy dwbml bxooa oweal hoaq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xbh tqaut iekau woc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16480" y="4919760"/>
            <a:ext cx="75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nat rtwle bocoq xhofb aurqe oxino oxlir defar uhoq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xbn nqttn cgwoo rt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6480" y="5700600"/>
            <a:ext cx="758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wsbe lymtt ernrq xtnei olfqt lebne uxorb okorl ocmq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exru oqwhe oogao aac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52E7C-D494-44C0-A382-5563A0941C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all 4 messages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 dep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 that is one on top of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 it as a large anagramming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6120" y="4038480"/>
            <a:ext cx="8288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tmai atecb bsbnq xivjb eecqu heikn oxlct sedwn oowqq texda aqmue caeon io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nbt tjliu eeyhq xotbi dttqy dwbml bxooa oweal hoaqp nexbh tqaut iekau woc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nat rtwle bocoq xhofb aurqe oxino oxlir defar uhoqe mexbn nqttn cgwoo rt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wsbe lymtt ernrq xtnei olfqt lebne uxorb okorl ocmqf iexru oqwhe oogao aac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86880" y="5576760"/>
            <a:ext cx="52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umns of “x” should all go to th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440080" y="3773520"/>
            <a:ext cx="6057720" cy="295200"/>
            <a:chOff x="2440080" y="3773520"/>
            <a:chExt cx="6057720" cy="295200"/>
          </a:xfrm>
        </p:grpSpPr>
        <p:sp>
          <p:nvSpPr>
            <p:cNvPr id="124" name=""/>
            <p:cNvSpPr/>
            <p:nvPr/>
          </p:nvSpPr>
          <p:spPr>
            <a:xfrm>
              <a:off x="2440080" y="377352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58960" y="377352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78200" y="377352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497800" y="377352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063C9-A567-49A6-AADA-5F764A3BC1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2500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provides a special anagramming tool for Double Column Transposi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09720" y="2728800"/>
            <a:ext cx="5381640" cy="382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34B65-E3FC-4368-82F5-B1B42FF00D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11T02:09:37Z</dcterms:modified>
  <cp:revision>70</cp:revision>
  <dc:subject/>
  <dc:title>CAP Cryptographic Analysis Program</dc:title>
</cp:coreProperties>
</file>